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C9A2-A25E-4B1E-ABF7-0E9EE7BA3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C0F5-CEAE-4932-87BA-CE0B90CC1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7C5A-FB43-44D6-98C8-85E8145FF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3768-9B08-497A-9988-11631BEE9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9535-41FF-4FE2-BF8E-CF9B6E331E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6576-6592-4E71-8C62-661B0C6AC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4C39-B23A-4A4B-98B2-36E99E79D0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43F0-4CE6-433F-BD6E-59B48ACD6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6999-07C8-40A2-B8A7-F4D400ED7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045A-34BE-4227-9F16-440FC1A152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7506-E876-4C59-BECB-118278B5A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AEAD-1CCC-48AB-884C-4142EBAEA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7307-18AA-4EC1-8477-639572B748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C730-7235-4AC9-885B-64F4C7F6B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43A1-5A06-40E0-8B42-FA82DE3A6E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357F-0B3A-4C4E-BA3F-86B43D1F9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510F-EABF-400A-850A-8481C56C5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5E32-62FD-4EEF-BE42-AEAE3CABF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C11F-9CF1-4DC0-AB2E-42F86594B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44A1-5154-4359-99B8-93DF4BCFE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9C2D-6CAB-4D5D-A4D9-503AEC504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DC5A-F82D-4FCB-88CF-C28DC758D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CEA7-58C1-49B4-88E1-26CFDA83A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0A09-52C9-440F-8B9D-A44A47A72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1188-2A5C-4B81-BCB4-FD305FCCB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1412-36EB-422D-98A8-6E1A3D7C582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7d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9999cc"/>
              </a:buClr>
              <a:buSzPct val="68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04960" y="15228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d99"/>
                </a:solidFill>
                <a:latin typeface="Lucida Grande"/>
                <a:ea typeface="Lucida Grande"/>
              </a:rPr>
              <a:t>Mencius</a:t>
            </a:r>
            <a:br>
              <a:rPr sz="4000"/>
            </a:br>
            <a:r>
              <a:rPr b="0" lang="en-US" sz="4000" spc="-1" strike="noStrike">
                <a:solidFill>
                  <a:srgbClr val="002d99"/>
                </a:solidFill>
                <a:latin typeface="Lucida Grande"/>
                <a:ea typeface="Lucida Grande"/>
              </a:rPr>
              <a:t> </a:t>
            </a:r>
            <a:r>
              <a:rPr b="0" lang="en-US" sz="3200" spc="-1" strike="noStrike">
                <a:solidFill>
                  <a:srgbClr val="002d99"/>
                </a:solidFill>
                <a:latin typeface="Times New Roman"/>
              </a:rPr>
              <a:t>(372-289 B.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Confucius 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Pushed for the right qualities of a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Rulers:Lead by example through education and provide for th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A ruler who is unjust may lose the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Times New Roman"/>
              </a:rPr>
              <a:t>Mandate of He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Mandate of Heaven is based on 4 thing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905508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ight to rule is granted by Heaven=Ruler religious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Only 1 Heaven=Only 1 R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ight to rule is based on how much power the ruler has=Ruler Powe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ight to rule is not limited to 1 dyna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4748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Origins of the Man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1160" y="1130040"/>
            <a:ext cx="892836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Zhou-Shang=</a:t>
            </a: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Early belief in a divine ruler: Shangdi: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Lord on High, Above empe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Shang: “Tian”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Tian - sky, heavens, g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Zhou - tian ming created =Mandate of He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14520" y="0"/>
            <a:ext cx="5638680" cy="1486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A dynasty could rule as long as th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uled with jus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duties of the ruler were carried out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Failure =Tian could choose a new r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11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s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752480"/>
            <a:ext cx="1441440" cy="536760"/>
          </a:xfrm>
          <a:prstGeom prst="rightArrow">
            <a:avLst>
              <a:gd name="adj1" fmla="val 50000"/>
              <a:gd name="adj2" fmla="val 6713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752480"/>
            <a:ext cx="1371600" cy="507960"/>
          </a:xfrm>
          <a:prstGeom prst="rightArrow">
            <a:avLst>
              <a:gd name="adj1" fmla="val 50000"/>
              <a:gd name="adj2" fmla="val 6750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828800" y="5410080"/>
            <a:ext cx="1371600" cy="571680"/>
          </a:xfrm>
          <a:prstGeom prst="rightArrow">
            <a:avLst>
              <a:gd name="adj1" fmla="val 50000"/>
              <a:gd name="adj2" fmla="val 599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5105160" y="5562720"/>
            <a:ext cx="1447560" cy="568080"/>
          </a:xfrm>
          <a:prstGeom prst="rightArrow">
            <a:avLst>
              <a:gd name="adj1" fmla="val 50000"/>
              <a:gd name="adj2" fmla="val 6370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9360" y="3342600"/>
            <a:ext cx="2057400" cy="85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219400">
            <a:off x="7131960" y="3510000"/>
            <a:ext cx="2044440" cy="809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24080" y="3048120"/>
            <a:ext cx="2819520" cy="1141200"/>
            <a:chOff x="3124080" y="3048120"/>
            <a:chExt cx="2819520" cy="1141200"/>
          </a:xfrm>
        </p:grpSpPr>
        <p:sp>
          <p:nvSpPr>
            <p:cNvPr id="106" name=""/>
            <p:cNvSpPr/>
            <p:nvPr/>
          </p:nvSpPr>
          <p:spPr>
            <a:xfrm>
              <a:off x="3124080" y="3048120"/>
              <a:ext cx="2819520" cy="114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09920" y="3163680"/>
              <a:ext cx="23112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DYNASTIC CYC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3120" y="1447920"/>
            <a:ext cx="21607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Dynasty gains power, restores peace and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257800"/>
            <a:ext cx="238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Dynasty seen as ineffective, rebellion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876920"/>
            <a:ext cx="26924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ters such as floods, famine, peasant revolts, and invasion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/>
  <cp:revision>0</cp:revision>
  <dc:subject/>
  <dc:title>China Under Confucius</dc:title>
</cp:coreProperties>
</file>